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380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Service-Oriented Computing: Semantics, Processes, Ag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dt" idx="37"/>
          </p:nvPr>
        </p:nvSpPr>
        <p:spPr>
          <a:xfrm>
            <a:off x="5268600" y="-360"/>
            <a:ext cx="4027320" cy="3380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i="1" lang="en-US" sz="10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August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Img"/>
          </p:nvPr>
        </p:nvSpPr>
        <p:spPr>
          <a:xfrm>
            <a:off x="2932200" y="510840"/>
            <a:ext cx="3433680" cy="257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body"/>
          </p:nvPr>
        </p:nvSpPr>
        <p:spPr>
          <a:xfrm>
            <a:off x="1238400" y="3260520"/>
            <a:ext cx="6819840" cy="309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ftr" idx="38"/>
          </p:nvPr>
        </p:nvSpPr>
        <p:spPr>
          <a:xfrm>
            <a:off x="-360" y="6519600"/>
            <a:ext cx="4027320" cy="3380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i="1" lang="en-US" sz="10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© Singh &amp;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 type="sldNum" idx="39"/>
          </p:nvPr>
        </p:nvSpPr>
        <p:spPr>
          <a:xfrm>
            <a:off x="5268600" y="6519600"/>
            <a:ext cx="4027320" cy="3380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i="1" lang="en-US" sz="10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34F331A5-1EAF-4F8A-854D-2DFE472157BA}" type="slidenum"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0" y="0"/>
            <a:ext cx="4027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Service-Oriented Computing: Semantics, Processes, Agen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5268960" y="0"/>
            <a:ext cx="4027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August 200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0" y="6519960"/>
            <a:ext cx="4027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© Singh &amp;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5268960" y="6519960"/>
            <a:ext cx="4027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2A996FAD-38BC-4CA6-B843-A5D37BECD6E2}" type="slidenum"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2932200" y="511200"/>
            <a:ext cx="3433680" cy="25750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1238400" y="3260520"/>
            <a:ext cx="6819840" cy="30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2"/>
          <p:cNvSpPr/>
          <p:nvPr/>
        </p:nvSpPr>
        <p:spPr>
          <a:xfrm>
            <a:off x="0" y="0"/>
            <a:ext cx="4027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Service-Oriented Computing: Semantics, Processes, Agen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Rectangle 3"/>
          <p:cNvSpPr/>
          <p:nvPr/>
        </p:nvSpPr>
        <p:spPr>
          <a:xfrm>
            <a:off x="5268960" y="0"/>
            <a:ext cx="4027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August 200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0" y="6519960"/>
            <a:ext cx="4027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© Singh &amp;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5268960" y="6519960"/>
            <a:ext cx="4027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C74251AA-3635-41D3-B9D7-E8FA6CAA59F5}" type="slidenum"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2932200" y="511200"/>
            <a:ext cx="3433680" cy="25750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1238400" y="3260520"/>
            <a:ext cx="6819840" cy="30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B184-54EF-428F-8C21-5AFAB5EE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D4BA-5BE1-4523-B174-9AF5E7A0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B0CC8B-7341-44C2-982C-7DE697BD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DB5373-1ECE-4DED-BD99-6A1BA5D8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12C8A0-C7B6-4F8E-9859-76C0691D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D4E8FD-6B96-41B0-9D80-12D39E01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C64F5D-0ED3-46C2-ADB4-F496F1BF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DDB2E5-94C1-4E32-BB6B-ECEA0F6F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A11543-7C21-4131-8729-6C3326D2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0B612D-0544-45BC-94CC-FE38B4A9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06D64C-EBB9-4519-8F2B-6D9A9033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9FBE5D-6284-44CE-8C37-7BDFF03C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1C06-FFE1-4005-8423-12468790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B5539B-5F7E-487A-A8B5-9E764527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A166E2-0EFF-449D-9602-9957A41F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53B2D6-4F97-40DC-9827-B2EC2344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1CF1B1-A67A-40D1-BB2F-B05C260C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1053E2-F6EA-4180-8142-49BE4952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5A0B91-100C-4A49-B3B6-9284D615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01EA3F-DCD4-442B-A253-34BD65A8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54FB08-E199-48DA-8EF3-C218CCEB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BA8018-54AD-49DF-8C64-4CBFE834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24A6B4-0AEC-445E-82ED-9BEDBFF4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807F-ECC5-46C3-92F8-7EB297A7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480841-4617-47AB-8476-6363AC25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E44782-A9C1-44B3-B8DA-19C4E9AC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F309F1-7EB3-4FA4-A9C7-CC9F40B0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F27B80-FD81-4187-9709-D3D9DB92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52F44E-CA84-49ED-8326-6D7279A8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AFEA4D-99F8-4941-97DD-2163DEFD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55F922-5077-4809-A6EC-C7E74A36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D1F908-E1FD-4C1F-941D-9ADC08DE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4A97EA-6392-4FDE-B545-30CF25B3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02C5D8-E461-4DA2-A976-CCF253B7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9C75-E238-4B6B-AFF4-135BF583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546742-5798-41FF-9737-3F32428C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AFBEAC-CB19-4FD6-8B03-ABC2BB0C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5A2EA1-82A0-486D-8BD0-FCE057DE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D3BF72-2246-42DD-9C06-7F140D36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8BC69B-EF9D-48B6-8FE6-27CCBA98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91A876-D04D-403D-89EF-6D707E53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F77AC7-44F5-48F7-BCA6-BDA50AF6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9B85B9-ADF3-486F-A89A-F9D7D512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D13FDD-929B-46E8-89F7-11A5E28F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32DD2A-9451-46FA-8AAD-569A4414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7B25-4B09-4B5D-8897-7C360CFE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629DD9-8FEC-4340-A571-7379EFCE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A767F4-B1A7-46B7-8F4E-8C0BF93F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2B3692-884C-4502-A878-7B9A036C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B1F5FC-9793-4AA9-B96A-1240AB08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14D38B-A35F-45E0-A577-CAA1EC59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D18B-5D41-43B9-A3F4-A998FA85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CE9C-D369-4894-9EB3-25BC5C1D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8635-978A-44BC-AA76-FC5315C5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939B-A0B5-4BCB-B0E0-C1432864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C01A-740C-439A-94D6-5B1A5518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9696C-F7F2-4941-86F5-9D922F83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5A20-C6F0-4408-A51E-40371BBD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F0FE-65BB-4219-8397-C8F5BACC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23B3-600A-413D-8EF4-48DB6B8A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DB61-362B-465F-8730-14006F97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1847-CCFE-4854-ABD6-12589E21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BD6BD-8DF5-4BD3-A45D-4F50F234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6E00F-FE71-4535-92A1-404251A6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ED134-F0C8-4EE2-B411-DAE4A9EA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C5F7B-12CC-4FDE-BA6C-C7487520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6B3A5-8920-4084-82F1-34FB382B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5B88E-D81F-4D74-8075-B325685E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44561-2E7D-4AB8-AF37-86727C76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22872-E71D-4B37-A6B2-DC8A9996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10913-96C8-4BAC-A86F-94143B19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2339A-62DD-402C-B90E-F697F327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71B03-23E5-4C0D-8231-6B7FC209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E85EC-E382-45D3-8BA4-B371E263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EF432-108A-44EB-AA9D-2BCFB418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2F9C80-4093-44EE-B495-B0A189A3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3E0CA6-F3D1-4DD6-A891-3BC96952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3C2CAA-81C1-4B14-9A62-A0E388DF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294F3-B5B8-4416-938F-6B508239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4B0559-8C85-44B0-9E21-84AB9437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709D73-1742-4A64-BD0C-B7FEF480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CEAED8-5D36-4A48-AA89-B9087379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55CD1-7EAA-4B2D-86ED-A2F4E6A8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A3683-6725-4635-AA61-74F4CA1D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2F32F7-3E7F-4291-BD3F-1316A8C7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FDEDF1-A38D-46D3-8CF6-F16B394F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4E27A-8979-4C55-A15A-30DACEB6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E1024-AC7D-4930-981D-92981688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8F609-DE6A-4593-9318-E20DABDB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6A9E-803C-497B-8828-F30F0F89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D78814-49C8-4F61-B761-EF64B824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DB3BB-2F4F-4FE2-9E64-1A1DCC13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5F9709-669C-4A25-A22C-1E2D2CAB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AD247D-EA2F-4C51-A82F-50E5CC90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6AB149-2604-42EB-A789-D125F5FF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A851C-7ACE-40B9-AA36-DA6C06CD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96ACA-6DAD-4491-AD22-40BB3DC1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173E07-BA3C-423F-BC1B-BE59412E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F03CD-8206-4E38-83A1-BC840BA0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6287A9-560F-49D8-BC4A-FA960B04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D99D-E482-4710-88EC-8E7AE335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D6830-D674-47BB-AA98-2CA7615A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E5FD2-FC4A-46DA-AE86-F60EE351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9A5BBF-9D0B-4653-8495-6777213E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847A0-3FCC-48A1-BFB7-95D2E1A6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522547-87FB-47AB-8444-0D986B66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004B5-2C7D-4912-A3A5-8F8D7686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37C98C-1ADF-4848-B8DB-FDCBC842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204ED4-262E-4E08-AED9-C19611FE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1301E-E2CE-4F57-ACDE-AFCEB7D0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8009E-1CAC-40A7-A01B-BE088438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14CEA-FC42-4BBC-9186-81B77345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0A3FF-39BA-47AF-A73C-8B3CDB35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14A60-D0A5-46B3-9690-263A146D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F6A0B2-B935-46D1-82C9-97E6C4B0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7B50FA-3A96-4DF6-B8A3-ED78E119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1657E7-A09A-41F7-8E00-99D755F6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6C3AF0-46C9-46A9-834D-C3D94016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D0C368-D5CA-4A61-B361-BA56A89A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DF3EA2-D8C0-4E2E-B49D-A715EBC5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13EBC-E382-4A3A-8E78-68FE1EB9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44D7BF-7954-44E8-ACAF-62C8FE5E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A4999-589E-4AA7-9C8D-1A386DCA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387418-EC41-4A0A-BB61-A09F1589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D5C34-8B7E-4D46-86AD-2D3B023C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F01DE-BFA7-45A9-8AE5-9E8A7897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142A6F-57DD-453C-9CCA-4D739637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F30667-671E-453C-8D9A-B4DE8053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ED49BD-FFB8-495A-9B44-2AE6A912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5C7D30-79C5-4475-8B93-D83FBAF8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48A0D3-8C88-44E9-BA85-1091CC49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D99891-37D7-4C5A-8D70-4A9DC74F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7DFE27-C98A-4520-BF1B-ED5108CE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4CB2C-45A3-4948-8EFC-59671FD7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E950FC-7C1A-4B45-93DC-6B97DC0D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2180D9-587C-406D-A303-9BA61DB1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FBA4D6-277B-4378-BCA4-D3726031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133C9A-22C1-4BC8-A07E-8C9EC9C6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29C502-A4EA-4A20-B00E-33A87F16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DDF4C7-3147-4EDC-B556-F6E48A54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427AC7-6C9C-4E82-9B46-D015844F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24DEB8-ED40-41DB-A262-CE26DB24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EEBC24-F07B-4832-8EE1-42DE283B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E65811-818A-43AA-85CB-02C5F755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EF4D-2F24-4B27-9144-065C63ED6E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9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D79F-F8A7-4D55-8960-27D16B54E2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ftr" idx="30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sldNum" idx="32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9D79-7375-437F-8372-E92D9F21F0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ftr" idx="33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35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22D1-2B06-4900-B25E-9DA5024414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6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35000" y="243000"/>
            <a:ext cx="9009000" cy="1052280"/>
            <a:chOff x="135000" y="243000"/>
            <a:chExt cx="9009000" cy="1052280"/>
          </a:xfrm>
        </p:grpSpPr>
        <p:grpSp>
          <p:nvGrpSpPr>
            <p:cNvPr id="49" name="Group 3"/>
            <p:cNvGrpSpPr/>
            <p:nvPr/>
          </p:nvGrpSpPr>
          <p:grpSpPr>
            <a:xfrm>
              <a:off x="428760" y="350640"/>
              <a:ext cx="712440" cy="474480"/>
              <a:chOff x="428760" y="350640"/>
              <a:chExt cx="712440" cy="47448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428760" y="350640"/>
                <a:ext cx="4384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812520" y="35064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552600" y="772920"/>
              <a:ext cx="739800" cy="474480"/>
              <a:chOff x="552600" y="772920"/>
              <a:chExt cx="739800" cy="47448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552600" y="772920"/>
                <a:ext cx="42264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922320" y="772920"/>
                <a:ext cx="37008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135000" y="69984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770040" y="2430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451080" y="106416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Service-Oriented Computing: Semantics, Processes, Ag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3CAA-1A7E-4B8F-86CF-73AA3AE18DF3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8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527D-1084-47A0-B64F-2A86DC54ED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9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11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3A6B-A19C-47D4-8376-2F3C9300D6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12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4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1A84-F9E9-4E0D-8130-073F37D905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ftr" idx="15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7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2FC1-0BC4-44AC-9B3E-69C32C89FE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8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20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6C88-183F-40F5-8C95-B175899DED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1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3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2F46-56B4-4F3D-9EA5-A479561C44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4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6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F044-24A9-4CCF-BD0C-2B1D4284D3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27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914400" y="18288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cture 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OA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WSD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UDD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Date Placeholder 2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CEC0-AC75-4A97-BDCF-703ECE61331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eb Services: Basic Architectu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3886200" y="2209680"/>
            <a:ext cx="1523880" cy="76212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Bro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905120" y="4791240"/>
            <a:ext cx="1295280" cy="69516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5943600" y="4791240"/>
            <a:ext cx="1447920" cy="69516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Reques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3962520" y="480060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Bind or invo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(SO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5267160" y="3276720"/>
            <a:ext cx="1362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ind or disco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(UDD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2362320" y="3276720"/>
            <a:ext cx="1685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Publish or annou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(WSD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9"/>
          <p:cNvSpPr/>
          <p:nvPr/>
        </p:nvSpPr>
        <p:spPr>
          <a:xfrm>
            <a:off x="4581360" y="2971800"/>
            <a:ext cx="137160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Line 10"/>
          <p:cNvSpPr/>
          <p:nvPr/>
        </p:nvSpPr>
        <p:spPr>
          <a:xfrm flipH="1">
            <a:off x="3209760" y="2971800"/>
            <a:ext cx="137160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Line 11"/>
          <p:cNvSpPr/>
          <p:nvPr/>
        </p:nvSpPr>
        <p:spPr>
          <a:xfrm>
            <a:off x="3209760" y="4800600"/>
            <a:ext cx="2743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Text Box 12"/>
          <p:cNvSpPr/>
          <p:nvPr/>
        </p:nvSpPr>
        <p:spPr>
          <a:xfrm>
            <a:off x="5275080" y="221616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stry; well-kn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13"/>
          <p:cNvSpPr/>
          <p:nvPr/>
        </p:nvSpPr>
        <p:spPr>
          <a:xfrm>
            <a:off x="1291680" y="541008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well-kn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2E64-6D8A-4CD8-9097-BF69071807E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cribing a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Get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Input Paramet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(String, Str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Output Paramet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te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AP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371240"/>
            <a:ext cx="82692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800" spc="-1" strike="noStrike">
                <a:solidFill>
                  <a:srgbClr val="ff0033"/>
                </a:solidFill>
                <a:latin typeface="Tahoma"/>
              </a:rPr>
              <a:t>Envelop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 that identifies the XML document as a SOAP messag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mandato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33"/>
                </a:solidFill>
                <a:latin typeface="Tahoma"/>
              </a:rPr>
              <a:t>Head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lement that contains header inform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33"/>
                </a:solidFill>
                <a:latin typeface="Tahoma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lement that contains call and response inform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mandato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33"/>
                </a:solidFill>
                <a:latin typeface="Tahoma"/>
              </a:rPr>
              <a:t>Faul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lement containing errors and status inform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73AF-800A-4FDD-8FE7-C20F5225865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AP Envelop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1826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OAP envelope indicates the start and the end of the messag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ahoma"/>
              </a:rPr>
              <a:t>The SOAP envelope solves the problem of knowing when you're done receiving a message and are ready to process i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Tahoma"/>
              </a:rPr>
              <a:t>Every SOAP message has a root Envelope ele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ahoma"/>
              </a:rPr>
              <a:t>Envelope element is mandatory part of SOAP Mess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Tahoma"/>
              </a:rPr>
              <a:t>Every Envelope element must contain exactly one Body ele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n Envelope contains a Header element, it must contain no more than one, and it must appear as the first child of the Envelope, before the Bod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B9CE-FC7A-4073-BC1C-1056E87030B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AP Envelop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envelope changes when SOAP versions chan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The SOAP envelope is specified using the </a:t>
            </a:r>
            <a:r>
              <a:rPr b="0" i="1" lang="en-US" sz="1800" spc="-1" strike="noStrike">
                <a:solidFill>
                  <a:srgbClr val="0070c0"/>
                </a:solidFill>
                <a:latin typeface="Tahoma"/>
              </a:rPr>
              <a:t>ENV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 namespace prefix and the </a:t>
            </a:r>
            <a:r>
              <a:rPr b="0" i="1" lang="en-US" sz="1800" spc="-1" strike="noStrike">
                <a:solidFill>
                  <a:srgbClr val="0070c0"/>
                </a:solidFill>
                <a:latin typeface="Tahoma"/>
              </a:rPr>
              <a:t>Envelope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 elem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Tahoma"/>
              </a:rPr>
              <a:t>The optional SOAP encoding is also specified using a namespace name and the optional </a:t>
            </a:r>
            <a:r>
              <a:rPr b="0" i="1" lang="en-US" sz="1800" spc="-1" strike="noStrike">
                <a:solidFill>
                  <a:srgbClr val="ff66ff"/>
                </a:solidFill>
                <a:latin typeface="Tahoma"/>
              </a:rPr>
              <a:t>encodingStyle</a:t>
            </a:r>
            <a:r>
              <a:rPr b="0" lang="en-US" sz="1800" spc="-1" strike="noStrike">
                <a:solidFill>
                  <a:srgbClr val="ff66ff"/>
                </a:solidFill>
                <a:latin typeface="Tahoma"/>
              </a:rPr>
              <a:t> element, which could also point to an encoding style other than the SOAP on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 v1.1-compliant SOAP processor will generate a fault when receiving a message containing the v1.2 envelope namespa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Tahoma"/>
              </a:rPr>
              <a:t>A v1.2- compliant SOAP processor generates a </a:t>
            </a:r>
            <a:r>
              <a:rPr b="0" i="1" lang="en-US" sz="1800" spc="-1" strike="noStrike">
                <a:solidFill>
                  <a:srgbClr val="92d050"/>
                </a:solidFill>
                <a:latin typeface="Tahoma"/>
              </a:rPr>
              <a:t>VersionMismatch</a:t>
            </a:r>
            <a:r>
              <a:rPr b="0" lang="en-US" sz="1800" spc="-1" strike="noStrike">
                <a:solidFill>
                  <a:srgbClr val="92d050"/>
                </a:solidFill>
                <a:latin typeface="Tahoma"/>
              </a:rPr>
              <a:t> fault if it receives a message that does not include the v1.2 envelope namespa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CCC6-B23D-4BCF-9D94-F12006A5305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?xml version="1.0"?&g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OAP-ENV:Envelop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ns:SOAP-ENV="http://www.w3.org/2001/12/soap-envelope"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AP-ENV:encodingStyle="http://www.w3.org/2001/12/soap-encoding"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information goes he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SOAP-ENV:Envelop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3852-6979-4890-9931-60BC76D730C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831C-C252-4987-A1CB-4022E970F5E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. SOAP Requ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T /temp HTTP/1.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: www.socweather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ent-Type: text/xml; charset="utf-8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ent-Length: xx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APAction: "http://www.socweather.com/temp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b7e"/>
                </a:solidFill>
                <a:latin typeface="Tahoma"/>
              </a:rPr>
              <a:t>&lt;!-- Above: HTTP headers and a blank line.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b7e"/>
                </a:solidFill>
                <a:latin typeface="Tahoma"/>
              </a:rPr>
              <a:t>&lt;!—These comments below: an XML document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?xml version=“1.0”?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env:Envelo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mlns:env="http://schemas.xmlsoap.org/soap/envelope/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v:encodingStyle="http://schemas.xmlsoap.org/soap/encoding/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env: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m:GetTemp xmlns:m="http://www.socweather.com/temp.xsd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m:City&gt;Honolulu&lt;/m:Cit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m:When&gt;now&lt;/m:Whe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m:GetTemp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env: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env:Envelop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66AA-E569-4B0D-B7E9-BEADC51652B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46748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. SOAP Respon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/1.1  200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-Type: text/xml; charset="utf-8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-Length: xx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APAction: "http://www.socweather.com/temp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?xml version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1.0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env:Envelope xmlns:env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http://schemas.xmlsoap.org/soap/envelope/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:encodingStyle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http://schemas.xmlsoap.org/soap/encoding/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env: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m:GetTempRespon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xmlns:m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http://www.socweather.com/temp.xsd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m:DegreesCelsius&gt;30&lt;/m:DegreesCelsiu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m:GetTempRespons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env: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env:Envelop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AP Fa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533160" y="1371240"/>
            <a:ext cx="84214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OAP fault mechanism returns specific information about the error, including a predefined code, a description, the address of the SOAP processor that gener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OAP Message can carry only one fault blo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ult element is an optional part of SOAP Messa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the HTTP binding, a successful response is linked to the 200 to 299 range of status code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AP fault is linked to the 500 to 599 range of status cod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4022-D862-4DE3-A18A-4428719AEDC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ult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182600" y="106632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?xml version='1.0' encoding='UTF-8'?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OAP-ENV:Envelop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ns:SOAP-ENV="http://schemas.xmlsoap.org/soap/envelope/" xmlns:xsi="http://www.w3.org/1999/XMLSchema-instance" xmlns:xsd="http://www.w3.org/1999/XMLSchema"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OAP-ENV:Body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OAP-ENV:Fault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aultcode xsi:type="xsd:string"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AP-ENV:Cl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aultcode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aultstring xsi:type="xsd:string"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ed to locate method (ValidateCreditCard) in clas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xamplesCreditCard) at /usr/local/ActivePerl-5.6/lib/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te_perl/5.6.0/SOAP/Lite.pm line 1555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aultstring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OAP-ENV:Fault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OAP-ENV:Body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OAP-ENV:Envelope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137E-B275-4624-B203-E2A848BEE89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17440" y="125856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ble Markup Language (XM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Simple Object Access Protocol (SOA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Web Services Description Language (WSD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Directory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Universal Description, Discovery, and Integration (UDD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70B2-490D-4A8B-8478-E1EB83C01FF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SDL: Web Services Descrip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s a programmatic interface to a Web service, inclu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s of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and output message form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perations provided by th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bin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SDL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definitions&gt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types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  definition of types.....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types&gt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  definition of a message.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message&gt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portTyp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  definition of a port....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portType&gt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binding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  definition of a binding.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binding&gt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definition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0CE0-AEE5-40C2-8722-6B02AE7DD65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WSDL document describes a web service using these major elements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990720" y="1752480"/>
          <a:ext cx="7696080" cy="4038840"/>
        </p:xfrm>
        <a:graphic>
          <a:graphicData uri="http://schemas.openxmlformats.org/drawingml/2006/table">
            <a:tbl>
              <a:tblPr/>
              <a:tblGrid>
                <a:gridCol w="1539720"/>
                <a:gridCol w="6156360"/>
              </a:tblGrid>
              <a:tr h="689040">
                <a:tc>
                  <a:txBody>
                    <a:bodyPr lIns="23040" rIns="23040" tIns="23040" bIns="23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solidFill>
                      <a:srgbClr val="e5eecc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solidFill>
                      <a:srgbClr val="e5eecc"/>
                    </a:solidFill>
                  </a:tcPr>
                </a:tc>
              </a:tr>
              <a:tr h="690480">
                <a:tc>
                  <a:txBody>
                    <a:bodyPr lIns="23040" rIns="2304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types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noFill/>
                  </a:tcPr>
                </a:tc>
                <a:tc>
                  <a:txBody>
                    <a:bodyPr lIns="23040" rIns="2304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data types used by the web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23040" rIns="2304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message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noFill/>
                  </a:tcPr>
                </a:tc>
                <a:tc>
                  <a:txBody>
                    <a:bodyPr lIns="23040" rIns="2304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messages used by the web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23040" rIns="2304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portType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noFill/>
                  </a:tcPr>
                </a:tc>
                <a:tc>
                  <a:txBody>
                    <a:bodyPr lIns="23040" rIns="2304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operations performed by the web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23040" rIns="2304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binding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noFill/>
                  </a:tcPr>
                </a:tc>
                <a:tc>
                  <a:txBody>
                    <a:bodyPr lIns="23040" rIns="2304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ommunication protocols used by the web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1DF1-4E91-46BC-A995-07DC8249AF8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SDL Po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 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portType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 element is the most important WSDL elemen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t describes a web service, the operations that can be performed, and the messages that are invol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&lt;portType&gt; element can be compared to a function library (or a module, or a class) in a traditional programming languag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SDL Messag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 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element defines the data elements of an oper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ch message can consist of one or more parts. The parts can be compared to the parameters of a function call in a traditional programming languag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SDL Typ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 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types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 element defines the data types that are used by the web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maximum platform neutrality, WSDL uses XML Schema syntax to define data typ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SDL Bind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 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binding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 element defines the message format and protocol details for each por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5184-653C-4A58-BE94-BD48EBEB3A1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S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message name="getTermRequest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part name="term" type="xs:string"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message&gt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message name="getTermResponse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part name="value" type="xs:string"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message&gt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portType name="glossaryTerms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operation name="getTerm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  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input message="getTermRequest"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  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output message="getTermResponse"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operation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portTyp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5FAC-F938-422B-8D4A-9AE17960359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rtTyp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457200" y="1905120"/>
          <a:ext cx="7772400" cy="2754360"/>
        </p:xfrm>
        <a:graphic>
          <a:graphicData uri="http://schemas.openxmlformats.org/drawingml/2006/table">
            <a:tbl>
              <a:tblPr/>
              <a:tblGrid>
                <a:gridCol w="2332080"/>
                <a:gridCol w="5440320"/>
              </a:tblGrid>
              <a:tr h="3315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solidFill>
                      <a:srgbClr val="e5eecc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solidFill>
                      <a:srgbClr val="e5eecc"/>
                    </a:solidFill>
                  </a:tcPr>
                </a:tc>
              </a:tr>
              <a:tr h="6058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e-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operation can receive a message but will not return a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est-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operation can receive a request and will return a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icit-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operation can send a request and will wait for a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operation can send a message but will not wait for a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0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6582-9B31-4BF3-A612-6B94509859D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1"/>
          <p:cNvSpPr/>
          <p:nvPr/>
        </p:nvSpPr>
        <p:spPr>
          <a:xfrm>
            <a:off x="5664240" y="20232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53352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?xml version="1.0"?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the root element, wsdl:definitions, defines a set of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related services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wsdl:definitions name="Temperature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Namespace="http://www.socweather.com/schema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mlns:ts="http://www.socweather.com/TempSvc.wsdl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mlns:tsxsd="http://schemas.socweather.com/TempSvc.xsd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mlns:soap="http://schemas.xmlsoap.org/wsdl/soap/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mlns:wsdl="http://schemas.xmlsoap.org/wsdl/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wsdl:types encapsulates schema definitions of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communication types; here using xsd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wsdl:type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all type declarations are expressed in xsd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xsd:schem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Namespace="http://namespaces.socweather.com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mlns:xsd="http://www.w3.org/1999/XMLSchema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80880" y="1410840"/>
            <a:ext cx="83059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xsd def: GetTemp [City string, When string]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xsd:element name="GetTemp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xsd:element name="City" type="string"/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xsd:element name="When" type="string"/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xsd def: GetTempResponse [DegreesCelsius integer]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xsd:element name="GetTempResponse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XML Schema entry as above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xsd def: GetTempFault [errorMessage string]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xsd:element name="GetTempFault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XML Schema entry as above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xsd:schema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types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533160" y="1487160"/>
            <a:ext cx="84214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wsdl:message elements describe potential transactions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Most messages, as here, have only one part.  Multiple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parts provide a way to aggregate complex messages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request GetTempRequest is of type GetTemp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message name="GetTempRequest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part name="body" element="tsxsd:GetTemp"/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messag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response GetTempResponse is of type GetTempResponse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message name="GetTempResponse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part name="body" element="tsxsd:GetTempResponse"/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messag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wsdl:portType describes messages in an operation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portType name="GetTempPortType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80520" y="148716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wsdl:operation describes the entire protocol from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input to output or fault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wsdl:operation name="GetTemp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The order input preceding output indicates the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request-response operation type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wsdl:input message="ts:GetTempRequest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wsdl:output message="ts:GetTempResponse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wsdl:fault message="ts:GetTempFault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wsdl:oper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wsdl:portTyp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wsdl:binding specifies a serialization protocol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wsdl:binding name="TempSvcSoapBinding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="ts:GetTempPortType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DE00-ABE4-431D-8F61-D7A4EC359CE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Profile (BP 1.0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eb Services Interoperability Organization (WS-I) has specified the following Basic Profile version 1.0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AP 1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1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ML 1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ML Schema Parts 1 and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DDI Version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SDL 1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leverage off soap:binding document style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soap:binding style="document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="http://schemas.xmlsoap.org/soap/http"/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semi-opaque container of network transport details --&gt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classed by soap:binding above @@@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operation name="GetTemp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soap:oper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apAction="http://www.socweather.com/TempSvc"/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further specify that the messages in the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 wsdl:operation "GetTemp" use SOAP? @@@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input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soap:body use="literal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mespace="http://schemas.socweather.com/TempSvc.xsd"/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input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33160" y="1371240"/>
            <a:ext cx="84214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As above for wsdl:output and wsdl:fault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operation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binding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wsdl:service names a new service "TemperatureService"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service name="TemperatureService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documentation&gt;socweather.com temperature ser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documentation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connect it to the binding "TempSvcSoapBinding" above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port name="GetTempPort" binding="ts:TempSvcSoapBinding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give the binding a network address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soap:address location="http://www.socweather.com/TempSvc"/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port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servic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definitions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8A29-9095-4BC2-9BC0-AC503F5EEFA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2125800" cy="23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SDL Data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30" name="Object 3"/>
          <p:cNvGraphicFramePr/>
          <p:nvPr/>
        </p:nvGraphicFramePr>
        <p:xfrm>
          <a:off x="2133720" y="152280"/>
          <a:ext cx="63849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280"/>
                    <a:ext cx="63849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CD4B-4CB5-4966-AB39-880B88FB3CE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rectory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discovery: enable applications, agents, Web service providers, Web service requestors, people, objects, and procedures to locate each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pages – entries found by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llow pages – entries found by characteristics and cap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asic directory might be a simple database (passive) or a broker/facilitator (active, that provides alerts and recruits particip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DDI – both white pages and yellow pages, but pas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03F3-367A-466D-BFE4-6C44E15D9FE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09240" y="152280"/>
            <a:ext cx="5396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DDI: Universal Description, Discovery, and Integ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DI is a Web service that is based on SOAP and X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DI regi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Model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echnical descriptions of a service’s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usinessEntiti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scribes the specifications of multiple t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1CA4-9A5D-4C14-9AD6-AB5E450645B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Yellow, Green, and White Pages in UDD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46" name="Object 3"/>
          <p:cNvGraphicFramePr/>
          <p:nvPr/>
        </p:nvGraphicFramePr>
        <p:xfrm>
          <a:off x="685800" y="1511280"/>
          <a:ext cx="784872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11280"/>
                    <a:ext cx="784872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Object 3"/>
          <p:cNvGraphicFramePr/>
          <p:nvPr/>
        </p:nvGraphicFramePr>
        <p:xfrm>
          <a:off x="304920" y="108000"/>
          <a:ext cx="8678880" cy="63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8000"/>
                    <a:ext cx="8678880" cy="63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0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C589-3586-4F4B-8B45-70137AAA192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638320" y="5105160"/>
            <a:ext cx="3048120" cy="14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ata Model for UDD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usinessEntity data structure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10760" y="11426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usinessEntity businessKey="uuid:C0E6D5A8-C446-4f01-99DA-70E212685A40"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="http://www.ibm.com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horizedName="John Doe"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name&gt;Acme Company&lt;/name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description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create cool Web servic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description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ntacts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ntact useType="general info"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description&gt;General Information&lt;/description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ersonName&gt;John Doe&lt;/personName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hone&gt;(123) 123-1234&lt;/phone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email&gt;jdoe@acme.com&lt;/email&gt; &lt;/contact&gt; &lt;/contacts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usinessServices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businessServices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81A2-81E1-458F-AADD-4A2E4750581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dentifierBag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keyedReference tModelKey="UUID:8609C81E-EE1F-4D5A-B202-3EB13AD01823" name="D-U-N-S" value="123456789" /&gt; &lt;/identifierBag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ategoryBag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keyedReference tModelKey="UUID:C0B9FE13-179F-413D-8A5B-5004DB8E5BB2" name="NAICS" value="111336" /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ategoryBag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businessEntit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2940-87E2-49EA-B28C-E091F36A12A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sinessServic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usinessService serviceKey="uuid:D6F1B765-BDB3-4837-828D-8284301E5A2A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Key="uuid:C0E6D5A8-C446-4f01-99DA-70E212685A40"&gt; &lt;name&gt;Hello World Web Service&lt;/name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description&gt;A friendly Web service&lt;/description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indingTemplates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bindingTemplates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businessServic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2B23-EFF0-41B6-8A18-733E422FFDA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AE5A-6D41-4F19-96E6-253D92BA3BC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s for Web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01" name="Object 3"/>
          <p:cNvGraphicFramePr/>
          <p:nvPr/>
        </p:nvGraphicFramePr>
        <p:xfrm>
          <a:off x="577800" y="1555920"/>
          <a:ext cx="8566200" cy="44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555920"/>
                    <a:ext cx="856620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ndingTempl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0EF2-CEA2-4FEF-AB5A-651B300A2E2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1" name="Picture 2" descr=""/>
          <p:cNvPicPr/>
          <p:nvPr/>
        </p:nvPicPr>
        <p:blipFill>
          <a:blip r:embed="rId1"/>
          <a:stretch/>
        </p:blipFill>
        <p:spPr>
          <a:xfrm>
            <a:off x="617400" y="914400"/>
            <a:ext cx="8420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DA45-CF14-43E1-A959-179170238F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819160" y="-82440"/>
            <a:ext cx="3881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SDL </a:t>
            </a:r>
            <a:r>
              <a:rPr b="0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UDD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76" name="Object 3"/>
          <p:cNvGraphicFramePr/>
          <p:nvPr/>
        </p:nvGraphicFramePr>
        <p:xfrm>
          <a:off x="138240" y="755640"/>
          <a:ext cx="8932680" cy="55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755640"/>
                    <a:ext cx="8932680" cy="55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E680-A8B7-459B-9CBA-676A5B3BB58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pter 2 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ain triad of Web services standar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ng together well-known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AP: object access and messa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SDL: based on CORBA ID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DDI: based on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necessary functionality for inter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complicated in their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t for tool vendors rather than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ingly hidden by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85800" y="1371240"/>
            <a:ext cx="82692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AP is acronym for Simple Object Access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OAP is a communication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SOAP is designed to communicate via Intern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SOAP can extend HTTP for XML messa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AP provides data transport for Web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OAP can exchange complete documents or call a remote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SOAP can be used for broadcasting a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SOAP is platform and language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AP is the XML way of defining what information gets sent and h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A3EA-DB64-4251-9D77-2D149282A97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2997-1888-4A93-B306-82359E8C9EE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OAP (Simple Object Access Protocol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exchange messages via HTTP, SMTP, and SIP (Session Initiation Protocol for Internet telephon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Originally designed for remote-procedure calls (RP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ks through firewalls on port 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Character-based, so easy to encrypt/decrypt and thus easy to sec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Tahoma"/>
              </a:rPr>
              <a:t>Inefficient due to character, not binary, data and large hea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describe bidirectional or n-party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70E3-6F68-4DFD-BDA0-F13DC8AF7F9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up 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e, e.g., C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GML (Standard Generalized Markup L): complex, few reliabl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 (HyperText ML): simple, unprincipled, mixes structure and dis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ML (eXtensible ML): simple, yet extensible subset of SGML to capture new vocabul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hine proce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, comprehensible (easier debugging), though verbose and arc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A434-9746-469D-BD5F-F1CDF9032E0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XML Basics and Namesp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?xml version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="1.0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&gt; </a:t>
            </a:r>
            <a:r>
              <a:rPr b="0" lang="en-US" sz="2000" spc="-1" strike="noStrike">
                <a:solidFill>
                  <a:srgbClr val="00ab7e"/>
                </a:solidFill>
                <a:latin typeface="Tahoma"/>
              </a:rPr>
              <a:t>&lt;!– not part of the document per se --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bitrary:toptag xmlns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http://one.default.namespace/if-needed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ns:arbitrary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http://wherever.it.might.be/arbit-n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   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ns:random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http://another.one/random-ns"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  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bitrary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ag attr1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v1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tr2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v2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onal text also known as PC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bitrary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tag attr1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v1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tr2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v2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arbitrary:atag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random:simple_tag/&gt; </a:t>
            </a:r>
            <a:r>
              <a:rPr b="0" lang="en-US" sz="2000" spc="-1" strike="noStrike">
                <a:solidFill>
                  <a:srgbClr val="00ab7e"/>
                </a:solidFill>
                <a:latin typeface="Tahoma"/>
              </a:rPr>
              <a:t>&lt;!– abbreviate start and end --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random:atag attr3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v3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&gt;  </a:t>
            </a:r>
            <a:r>
              <a:rPr b="0" lang="en-US" sz="2000" spc="-1" strike="noStrike">
                <a:solidFill>
                  <a:srgbClr val="00ab7e"/>
                </a:solidFill>
                <a:latin typeface="Tahoma"/>
              </a:rPr>
              <a:t>&lt;!– compare arbitrary:atag --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arbitrary:toptag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E74A-B305-4800-B88D-BCE9DF73B5E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XML Sch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mmar (data definition language) for specifying valid doc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syntax as regular XML documents: verbose and difficult to r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local scoping of subelement n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porates namesp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mitive (built-in): string, integer, float, date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Type constructors: list, un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rictions: intervals, lengths, enumerations, regex pattern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ordering of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and referential integrity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9:18Z</dcterms:created>
  <dc:creator>Dr. Munindar P. Singh &amp; Prof. Michael N. Huhns</dc:creator>
  <dc:description/>
  <dc:language>en-US</dc:language>
  <cp:lastModifiedBy>Dr. Shakeel Ahmed Khoja</cp:lastModifiedBy>
  <cp:lastPrinted>1999-08-23T19:58:05Z</cp:lastPrinted>
  <dcterms:modified xsi:type="dcterms:W3CDTF">2011-03-02T06:10:57Z</dcterms:modified>
  <cp:revision>397</cp:revision>
  <dc:subject>Service-Oriented Computing</dc:subject>
  <dc:title>Chapter 2: Basic Standards for Web Services</dc:title>
</cp:coreProperties>
</file>